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C192-947A-4794-B178-91F7CC739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40F8-C9AD-4689-A206-F74BFFE98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578E-9B6F-4409-9137-30DE7B3E5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94F9-29C9-4EA7-9E55-62A637992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303A-7B6B-433F-9A4B-DB31637E9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447B-C263-4C3E-8F5C-02A5AFE50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8614-E493-444B-9B4F-250BF86A9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1E5B-7792-4E0C-A53F-0F4E9D89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4BD-0E5D-4A90-9EE6-F11890614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4749-657B-4085-8FD0-009A0FB8F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56A-3066-4C08-B313-9DC78689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8A20-FC40-43A7-953D-A57ABB1DA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0C3-9710-4C4A-B630-E038B083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E9B-2B94-4A5E-BEA5-370A8509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4E5-A4BC-425E-8D53-792A1554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648-56FE-429A-8AF7-A40AC6FD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C6C-E024-48C9-A037-8B70865C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46A-721A-4982-9D66-510ACF34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40D-B1D3-4454-97E9-EF6A57FD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D4B-BF78-4F73-9E09-424A4667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876-6246-4F03-88E1-67CD0D55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F85-9495-40CD-A26E-B70FCB9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652-933E-44FC-99D8-0CE95AC5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301-FD7D-413B-9C3C-C9C7BF0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577F-A257-4FE2-8E51-91A5F8FF2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0" y="762120"/>
            <a:ext cx="914400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3300"/>
                </a:solidFill>
                <a:uFillTx/>
                <a:latin typeface="Times New Roman"/>
              </a:rPr>
              <a:t>Federal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legated Powers     Concurrent Powers   Reserved Pow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(National Government)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  (Shared)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     (State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"/>
          <p:cNvSpPr/>
          <p:nvPr/>
        </p:nvSpPr>
        <p:spPr>
          <a:xfrm>
            <a:off x="2971800" y="160020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5867280" y="160020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usa"/>
          <p:cNvPicPr/>
          <p:nvPr/>
        </p:nvPicPr>
        <p:blipFill>
          <a:blip r:embed="rId1"/>
          <a:stretch/>
        </p:blipFill>
        <p:spPr>
          <a:xfrm>
            <a:off x="0" y="3886200"/>
            <a:ext cx="2895480" cy="208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lorado"/>
          <p:cNvPicPr/>
          <p:nvPr/>
        </p:nvPicPr>
        <p:blipFill>
          <a:blip r:embed="rId2"/>
          <a:stretch/>
        </p:blipFill>
        <p:spPr>
          <a:xfrm>
            <a:off x="6324480" y="3505320"/>
            <a:ext cx="2384640" cy="2590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shaking"/>
          <p:cNvPicPr/>
          <p:nvPr/>
        </p:nvPicPr>
        <p:blipFill>
          <a:blip r:embed="rId3"/>
          <a:stretch/>
        </p:blipFill>
        <p:spPr>
          <a:xfrm>
            <a:off x="3276720" y="3809880"/>
            <a:ext cx="22096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oloradocap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482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752480" y="56386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c80"/>
                </a:solidFill>
                <a:latin typeface="Times New Roman"/>
              </a:rPr>
              <a:t>Number 38 / 187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olor4coins"/>
          <p:cNvPicPr/>
          <p:nvPr/>
        </p:nvPicPr>
        <p:blipFill>
          <a:blip r:embed="rId1"/>
          <a:stretch/>
        </p:blipFill>
        <p:spPr>
          <a:xfrm>
            <a:off x="1371600" y="0"/>
            <a:ext cx="5757840" cy="69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iwo-ji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ax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2133720" y="3836880"/>
            <a:ext cx="2514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tern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ven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r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0" y="838080"/>
            <a:ext cx="3809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ke Running Shoes - $90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les tax (5%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-   $4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 $94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ourthouse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70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olice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ms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421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wedding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onagra"/>
          <p:cNvPicPr/>
          <p:nvPr/>
        </p:nvPicPr>
        <p:blipFill>
          <a:blip r:embed="rId1"/>
          <a:stretch/>
        </p:blipFill>
        <p:spPr>
          <a:xfrm>
            <a:off x="2514600" y="228600"/>
            <a:ext cx="3124080" cy="236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hef_boyardee"/>
          <p:cNvPicPr/>
          <p:nvPr/>
        </p:nvPicPr>
        <p:blipFill>
          <a:blip r:embed="rId2"/>
          <a:stretch/>
        </p:blipFill>
        <p:spPr>
          <a:xfrm>
            <a:off x="5791320" y="519120"/>
            <a:ext cx="3352680" cy="20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slimjim"/>
          <p:cNvPicPr/>
          <p:nvPr/>
        </p:nvPicPr>
        <p:blipFill>
          <a:blip r:embed="rId3"/>
          <a:stretch/>
        </p:blipFill>
        <p:spPr>
          <a:xfrm>
            <a:off x="228600" y="228600"/>
            <a:ext cx="242424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safeway"/>
          <p:cNvPicPr/>
          <p:nvPr/>
        </p:nvPicPr>
        <p:blipFill>
          <a:blip r:embed="rId4"/>
          <a:stretch/>
        </p:blipFill>
        <p:spPr>
          <a:xfrm>
            <a:off x="990720" y="4227480"/>
            <a:ext cx="7467480" cy="263052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1905120" y="2819520"/>
            <a:ext cx="457200" cy="13716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6324120" y="2743200"/>
            <a:ext cx="381240" cy="1447920"/>
          </a:xfrm>
          <a:prstGeom prst="line">
            <a:avLst/>
          </a:prstGeom>
          <a:ln w="152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4038480" y="3124080"/>
            <a:ext cx="0" cy="9907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352680" y="24382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$ $ $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01:25:46Z</dcterms:created>
  <dc:creator>Curt Ranweiler</dc:creator>
  <dc:description/>
  <dc:language>en-US</dc:language>
  <cp:lastModifiedBy>BHS</cp:lastModifiedBy>
  <dcterms:modified xsi:type="dcterms:W3CDTF">2009-09-10T14:20:54Z</dcterms:modified>
  <cp:revision>6</cp:revision>
  <dc:subject/>
  <dc:title>PowerPoint Presentation</dc:title>
</cp:coreProperties>
</file>